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0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31.jpeg" ContentType="image/jpeg"/>
  <Override PartName="/ppt/media/image4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2CED-BC16-4887-85B9-6F6EA8F9B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FF8F-99BF-4446-AB65-4B5DF581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6BD7-BEE8-4F4C-9CE1-151E71A25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B1F3-1B60-4E2E-95EA-7F0C383D8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8E16-739C-439D-94FE-BC11161E2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6430-8551-45DA-BA40-1CD92ADB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FCCA-A2B3-4798-94E7-71E2DCEE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3A4C-9AD1-4EA6-B34D-45FAA4F8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B79A-3ECC-4926-8255-059BEF98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3248-CE84-4B5F-8CBF-5DE1AEC4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F52A-2E92-4A6B-B821-6138B289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A879-9423-4428-9054-F8BA1AE8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3BC1-AF62-4D42-8A97-B1438DF8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D66D-54F9-4D4C-99F6-EB25E379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DE8D-DC31-40DB-ABA4-EC6BB60E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70C9-36C5-4BAE-AB61-CDD2B88E7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A793-C063-4647-8F2C-794BF3B4C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1624-8023-4287-AB11-CD4D0535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E7D4-106D-4EEC-8CAF-CE06433F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9061-ED3F-478F-856F-E0105543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BB84-62A7-4B94-BA79-DC47F381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EEB4-B3B6-486E-9E22-B3B59D42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F292-787E-4093-89F7-25665B4E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61F8-7902-4B85-AB5A-F2DA76F6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9424-B8C8-4F54-B306-4F4DA30338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91B0-E0EA-4EB8-A9DC-C616D73A9D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0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0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0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37492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pter 13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ibra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v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eriod and Frequenc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eriod, T, is the time that it takes for the object to complete one complete cycle of mo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m x = A to x = - A and back to x = 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requency,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ƒ, is the number of complete cycles or vibrations per unit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ƒ = 1 / 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quency is the reciprocal of the peri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cceleration of an Object in Simple Harmonic Mo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wton’s second law will relate force and accel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orce is given by Hooke’s La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 = - k x = m 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= -kx / 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cceleration is a function of pos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leration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nstant and therefore the uniformly accelerated motion equation cannot be appli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lastic Potential Ener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compressed spring has potential energ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mpressed spring, when allowed to expand, can apply a force to an ob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otential energy of the spring can be transformed into kinetic energy of the ob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lastic Potential Energy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nergy stored in a stretched or compressed spring or other elastic material is calle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elastic potential ener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½k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nergy is stored only when the spring is stretched or compres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astic potential energy can be added to the statements of Conservation of Energy and Work-Ener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nergy in a Spring Mass Syste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810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block sliding on a frictionless system collides with a light sp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block attaches to the sp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ystem oscillates in Simple Harmonic Mo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22960" y="2017800"/>
            <a:ext cx="3452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nergy Transformat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lock is moving on a frictionless surf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otal mechanical energy of the system is the kinetic energy of the blo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354400" y="2017800"/>
            <a:ext cx="54273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nergy Transformations, 2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pring is partially compres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nergy is shared between kinetic energy and elastic potential ener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otal mechanical energy is the sum of the kinetic energy and the elastic potential ener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04880" y="2017800"/>
            <a:ext cx="69278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nergy Transformations, 3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pring is now fully compres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block momentarily sto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otal mechanical energy is stored as elastic potential energy of the sp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371600" y="2017800"/>
            <a:ext cx="7394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nergy Transformations, 4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block leaves the spring, the total mechanical energy is in the kinetic energy of the blo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pring force is conservative and the total energy of the system remains cons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019240" y="2017800"/>
            <a:ext cx="6097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Velocity as a Function of Posi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rvation of Energy allows a calculation of the velocity of the object at any position in its mo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ed is a maximum at x = 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ed is zero at x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±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The ± indicates the object can be traveling in either dir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104920" y="3352680"/>
          <a:ext cx="3257640" cy="105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4920" y="3352680"/>
                    <a:ext cx="325764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ooke’s La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- k 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spring fo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 is the spring cons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a measure of the stiffness of the sp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large k indicates a stiff spring and a small k indicates a soft spr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is the displacement of the object from its equilibrium pos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 = 0 at the equilibrium pos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egative sign indicates that the force is always directed opposite to the displac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Verdana"/>
              </a:rPr>
              <a:t>Simple Harmonic Motion and Uniform Circular Motion</a:t>
            </a:r>
            <a:endParaRPr b="0" lang="en-US" sz="4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453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ball is attached to the rim of a turntable of radius 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ocus is on the shadow that the ball casts on the scre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turntable rotates with a constant angular speed, the shadow moves in simple harmonic mo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940360" y="2017800"/>
            <a:ext cx="2217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eriod and Frequency from Circular Mo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gives the time required for an object of mass m attached to a spring of constant k to complete one cycle of its mo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its are cycles/second or Hertz, H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819520" y="1752480"/>
                <a:ext cx="17524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657600" y="4343400"/>
                <a:ext cx="259092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ƒ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ngular Frequenc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ngular frequency is related to the 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gives the number of cycles per seco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gular frequenc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gives the number of radians per seco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057400" y="2971800"/>
                <a:ext cx="25909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ƒ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ffective Spring Mas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raph of 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versus m does not pass through the orig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spring has mass and oscillat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 cylindrical spring, th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effectiv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dditional mass of a light spring is 1/3 the mass of the spr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tion as a Function of Tim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of 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eference circl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llows a description of the mo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 = A cos (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ƒ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x is the position at time 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x varies between +A and -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146560" y="2017800"/>
            <a:ext cx="380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raphical Representation of Mo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572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x is a maximum or minimum, velocity is ze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x is zero, the velocity is a maxim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x is a maximum in the positive direction, a is a maximum in the negative dir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477040" y="2017800"/>
            <a:ext cx="3144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tion Equat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member, the uniformly accelerated motion equations cannot be us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= A cos (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ƒt) = A co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 = -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ƒA sin (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ƒt) = -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 si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= -4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ƒ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cos (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ƒt) =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-A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  <a:ea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 co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Verification of Sinusoidal Natur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4419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experiment shows the sinusoidal nature of simple harmonic mo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pring mass system oscillates in simple harmonic mo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ttached pen traces out the sinusoidal mo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549760" y="2017800"/>
            <a:ext cx="2998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imple Pendulu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imple pendulum is another example of simple harmonic mo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orce is the component of the weight tangent to the path of mo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- m g si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200560" y="2017800"/>
            <a:ext cx="3697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imple Pendulum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general, the motion of a pendulum is not simple harmon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ever, for small angles, it becomes simple harmon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general, angles &lt; 15° are small enou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θ = 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  <a:ea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= - m g 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force obeys Hooke’s La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ooke’s Law For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force always acts toward the equilibrium po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estoring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direction of the restoring force is such that the object is being either pushed or pulled toward the equilibrium po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eriod of Simple Pendulu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s shows that the period is independent of the amplitu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period depends on the length of the pendulum and the acceleration of gravity at the location of the pendulu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438280" y="1878120"/>
                <a:ext cx="190512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Verdana"/>
              </a:rPr>
              <a:t>Simple Pendulum Compared to a Spring-Mass System</a:t>
            </a:r>
            <a:endParaRPr b="0" lang="en-US" sz="42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755800" y="1981080"/>
            <a:ext cx="412776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hysical Pendulu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hysical pendulum can be made from an object of any sha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enter of mass oscillates along a circular ar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567400" y="2017800"/>
            <a:ext cx="2965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eriod of a Physical Pendulu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eriod of a physical pendulum is given b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is the object’s moment of inert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 is the object’s ma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imple pendulum, I = m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the equation becomes that of the simple pendulum as seen befo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981080" y="2895480"/>
          <a:ext cx="2438640" cy="11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895480"/>
                    <a:ext cx="243864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amped Oscillat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ly ideal systems oscillate indefini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real systems, friction retards the mo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riction reduces the total energy of the system and the oscillation is said to b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damp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amped Oscillations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267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mped motion varies depending on the fluid 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a low viscosity fluid, the vibrating motion is preserved, but the amplitude of vibration decreases in time and the motion ultimately ce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is known as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underdampe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sci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145120" y="2286000"/>
            <a:ext cx="38098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Types of Damping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 a higher viscosity, the object returns rapidly to equilibrium after it is released and does not oscill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ystem is said to b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ritically damp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 an even higher viscosity, the piston returns to equilibrium without passing through the equilibrium position, but the time required is long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said to b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ver damp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raphs of Damped Oscillator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ot a shows an underdamped oscilla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ot b shows a critically damped oscilla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ot c shows an overdamped oscilla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145120" y="2468520"/>
            <a:ext cx="380988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ave Mo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wave is the motion of a disturb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chanical waves requ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source of disturb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medium that can be disturb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physical connection between or mechanism though which adjacent portions of the medium influence each o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waves carry energy and moment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ypes of Waves – Traveling Wav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lip one end of a long rope that is under tension and fixed at one 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ulse travels to the right with a definite spe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disturbance of this type is called 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raveling wa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468760" y="2017800"/>
            <a:ext cx="3160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ooke’s Law Applied to a Spring – Mass Syste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x is positive (to the right), F is negative (to the lef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x = 0 (at equilibrium), F is 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x is negative (to the left), F is positive (to the righ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95760" y="2017800"/>
            <a:ext cx="3106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ypes of Waves – Transvers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 transverse wave, each element that is disturbed moves in a direction perpendicular to the wave mo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270160" y="4151160"/>
            <a:ext cx="5595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ypes of Waves – Longitud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 longitudinal wave, the elements of the medium undergo displacements parallel to the motion of the wa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longitudinal wave is also called a compression wa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371600" y="4648320"/>
            <a:ext cx="777240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Other Types of Wav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ves may be a combination of transverse and longitudi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lito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consists of a solitary wave front that propagates in isol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 studied by John Scott Russell in 184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w used widely to model physical phenomen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aveform – A Picture of a Wav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rown curve is a “snapshot” of the wave at some instant in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lue curve is later in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high points ar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res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wa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ow points ar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rough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wa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145120" y="2313000"/>
            <a:ext cx="38098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Verdana"/>
              </a:rPr>
              <a:t>Longitudinal Wave Represented as a Sine Curve</a:t>
            </a:r>
            <a:endParaRPr b="0" lang="en-US" sz="4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longitudinal wave can also be represented as a sine cur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ressions correspond to crests and stretches correspond to trough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so called density waves or pressure wa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895480" y="4029120"/>
            <a:ext cx="35989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escription of a Wav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teady stream of pulses on a very long string produces a continuous wa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lade oscillates in simple harmonic mo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small segment of the string, such as P, oscillates with simple harmonic mo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145120" y="2779560"/>
            <a:ext cx="3809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mplitude and Wavelength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mplitude is the maximum displacement of string above the equilibrium pos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λ, is the distance between two successive points that behave identic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145120" y="2943360"/>
            <a:ext cx="3809880" cy="22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peed of a Wav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 = ƒ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Is derived from the basic speed equation of distance/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This is a general equation that can be applied to many types of wav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peed of a Wave on a String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speed on a wave stretched under some tension, 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called the linear den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speed depends only upon the properties of the medium through which the disturbance trav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905120" y="2971800"/>
          <a:ext cx="373356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971800"/>
                    <a:ext cx="373356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rference of Wav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traveling waves can meet and pass through each other without being destroyed or even alt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ves obey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uperposition Princi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two or more traveling waves are moving through a medium, the resulting wave is found by adding together the displacements of the individual waves point by po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ually only true for waves with small amplitu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tion of the Spring-Mass Syste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e the object is initially pulled to a distance A and released from r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the object moves toward the equilibrium position, F and a decrease, but v incre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x = 0, F and a are zero, but v is a maxim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bject’s momentum causes it to overshoot the equilibrium pos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structive Interferen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waves, a and b, have the same frequency and amplitu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n ph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mbined wave, c, has the same frequency and a greater amplitu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607000" y="2017800"/>
            <a:ext cx="2884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structive Interference in a String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pulses are traveling in opposite dire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et displacement when they overlap is the sum of the displacements of the pul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that the pulses are unchanged after the interfe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213000" y="2017800"/>
            <a:ext cx="37101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estructive Interferen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waves, a and b, have the same amplitude and 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are 180° out of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they combine, the waveforms canc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59480" y="2017800"/>
            <a:ext cx="2981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estructive Interference in a String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pulses are traveling in opposite dire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et displacement when they overlap is decreased since the displacements of the pulses subtr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that the pulses are unchanged after the interfe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224160" y="2017800"/>
            <a:ext cx="36892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flection of Waves –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ixed En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ever a traveling wave reaches a boundary, some or all of the wave is reflec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it is reflected from a fixed end, the wave is inve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hape remains the sa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6070680" y="2017800"/>
            <a:ext cx="1957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flected Wave – Free En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a traveling wave reaches a boundary, all or part of it is reflec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reflected from a free end, the pulse is not inve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308320" y="2017800"/>
            <a:ext cx="5519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omework Revie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,3,7,15,17,21,31,34,37,43,4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tion of the Spring-Mass System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force and acceleration start to increase in the opposite direction and velocity decrea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otion momentarily comes to a stop at x = -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 then accelerates back toward the equilibrium po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otion continues indefini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imple Harmonic Mo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tion that occurs when the net force along the direction of motion obeys Hooke’s La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orce is proportional to the displacement and always directed toward the equilibrium pos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otion of a spring mass system is an example of Simple Harmonic Mo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imple Harmonic Motion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 all periodic motion over the same path can be considered Simple Harmonic mo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be Simple Harmonic motion, the force needs to obey Hooke’s La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mplitud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mplitude, 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mplitude is the maximum position of the object relative to the equilibrium pos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he absence of friction, an object in simple harmonic motion will oscillate between the positions x =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±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18:09:20Z</dcterms:created>
  <dc:creator>Marilyn Akins</dc:creator>
  <dc:description/>
  <dc:language>en-US</dc:language>
  <cp:lastModifiedBy>DCPS</cp:lastModifiedBy>
  <dcterms:modified xsi:type="dcterms:W3CDTF">2008-11-19T18:57:53Z</dcterms:modified>
  <cp:revision>11</cp:revision>
  <dc:subject/>
  <dc:title>Chapter 13</dc:title>
</cp:coreProperties>
</file>